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2C5-2D98-4C1A-A2B0-FC7F78A3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892-7745-4E57-917C-760E5D53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F8C-3148-4930-8307-3333D4AF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81C-8126-4706-9733-68B046E3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D0B-4BA5-4A3B-A2BE-53891974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CF5-8F32-4DA4-9FA0-CF448231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8D0-AE4C-450D-B253-038F88B4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775-8381-4566-A0CF-8E29CBE9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B66-F017-4B83-9A14-71E1D4E6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FB4-533C-4CE1-A72A-3B6C5294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DC3-0B88-45DE-A460-8C97174A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9E9-9B17-4E6A-A388-8AA0E8C6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6383-AEF2-434E-9F5F-BE2BE08EE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3962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’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760" y="3733920"/>
            <a:ext cx="24382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of Educa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280"/>
            <a:ext cx="3200400" cy="762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k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752480"/>
            <a:ext cx="5943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: Pl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743200"/>
            <a:ext cx="59436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nds, solo artists, or genr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ks, magazines, newspapers, blogs, et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152280"/>
            <a:ext cx="13716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     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228600"/>
            <a:ext cx="2590920" cy="3276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5715000"/>
            <a:ext cx="2362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entry was created by: Your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8:00:37Z</dcterms:created>
  <dc:creator>Sharon Shelhamer</dc:creator>
  <dc:description/>
  <dc:language>en-US</dc:language>
  <cp:lastModifiedBy>Sharon Shelhamer</cp:lastModifiedBy>
  <dcterms:modified xsi:type="dcterms:W3CDTF">2011-04-24T13:18:24Z</dcterms:modified>
  <cp:revision>9</cp:revision>
  <dc:subject/>
  <dc:title>Character’s name</dc:title>
</cp:coreProperties>
</file>